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E13E-BB2A-4B22-93BF-032F6A4AE5E2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AC9F-9FCD-437C-B0F6-0EABD9E22A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4BCF-281F-41C8-BA7A-2D2E18818C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AD01-E0C7-402A-B339-D10941B9DE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4AB3-86A8-4DB3-86CE-D52BF2A446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FC35-5BCA-4902-B57C-064B13AB7E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BD9E-8B33-4812-887B-2222FAAB18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13C0-C299-45B6-891A-487EE37D8C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8FD2-46F4-443D-AC4B-5F0E940867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C94D-7EE7-4C6E-BC30-BE9CFA3682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9B8-AAAF-4EF1-BF26-09312889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953-B13E-4D75-94C0-9B44655C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826-1C1F-45B1-9EB5-0C02FE74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627-C3F4-4DE4-AA38-DEF26230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C7C0-8902-436E-AE4E-B734CCA3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B88F-956B-4F0E-8DA4-BA6578EC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1B9F-002A-481A-B154-71966AC8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86FF-D47F-4AC8-AC21-240008D1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A0F4-3B71-45D5-8DDC-1F22CE44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78C1-00D0-4B03-AC45-894FBE97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8B58-BE0C-4A4F-88C9-8041E853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E3E-E001-4CFB-9BB8-415BB8E4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AE7F-CF93-403B-B0E2-0EF148BE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E447-5887-4FAC-ADDA-6C9A59C6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E995-75D0-4DE1-847E-17E827AF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C2C9-20D6-444C-B301-B3D19C52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3B17-7CFF-4C57-AF91-86D6D09B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0AC97D-99E2-4093-A78F-D725A0A58A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8B286C-D79E-41CC-B975-7B21E3A8E7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181E04-B694-456F-A8DB-7E312DEF79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5B2CC-2CED-4DBC-83EC-180587783F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6E2C05-A835-4BF3-9413-CE5D782544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ADB-C88D-4E50-8768-4523DB45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DF394-A8DE-46C1-9076-FF182D9FB7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F673DD-9CCF-4320-90F7-2EF0BCE361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3AB25-09D2-4FA0-A69C-025202756F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E129D-D344-4681-B10B-8AE8E8A647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1B1CC7-4C04-4C3A-B4E1-F57DF47BD2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5B2262-C836-4A59-B9C7-1B47C4E042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641230-F859-4C55-B912-6EAE97964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3A9-CAD8-4141-A0E0-07745483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78B-1290-4397-90ED-646EDEAB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82A6-9B0E-4B30-B182-7E1943CA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AF0-6BF1-45F0-B295-D0AB7FE7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F22-7858-4017-969D-A6F01433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246-9A7D-4658-82A0-8071C323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C334-41B6-4CC1-8796-C98DAA788C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6BD6-A680-4F8E-884F-D8EB9646E8B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7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7B38-1BF1-470F-91AB-63A7B8FA8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600" spc="-1" strike="noStrike">
                <a:solidFill>
                  <a:srgbClr val="ffd624"/>
                </a:solidFill>
                <a:latin typeface="Verdana"/>
              </a:rPr>
              <a:t>Macro - I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Évaluation macroéconomique et cadre de gestion des risques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F5A6-F86A-4549-AFBD-A0AEEEF23A70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En outre, un déficit budgétaire élevé peut entraîner 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Une inflation élevée (notamment en cas de dominance fiscale forçant la banque centrale à "faire tourner la planche à billets" pour financer le déficit budgétair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Une réduction des investissements privés quand les emprunts de l'État évincent le secteur privé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Une augmentation de la vulnérabilité externe en cas d'emprunt étranger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5950-3386-4C9B-89AC-2B8C583A44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964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La crise financière mondiale a montré que la santé du secteur financier d'un pays a de profondes implications pour sa propre économie et pour les autr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La solidité financière est cruciale pour l'absorption des chocs</a:t>
            </a: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Un secteur bancaire fragile est susceptible :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(i) de réduire l'efficacité de la politique monétaire à cause de la faiblesse des canaux de transmission au secteur réel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37DE-8F98-4082-B8F9-8C529BA5A5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(ii) de propager et d'amplifier les chocs, au lieu d'en faciliter l'absorption par l'économi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p.ex. en entravant la reprise du fait de l'incapacité à prêter à des secteurs importants pour le redressement économiqu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p.ex. en mettant en péril la soutenabilité de la dette publique en cas de besoin de recapitalisation des institutions financières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2EA9-6C70-4DCA-8A4B-50681067E4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(iii) de compliquer les réactions politiques aux chocs et aux déséquilibr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e5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.ex. en cas de déséquilibres de la balance des paiements, la dévaluation peut être retardée par crainte de l'impact sur le secteur bancaire (à court de devises étrangèr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e5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.ex. en cas d'inflation, l'assainissement de la politique monétaire peut être retardé par crainte d'une hausse des prêts non performants (PNP) qui dégraderait le bilan des ban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D7C9-D274-4469-8B9B-4A10D74542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Un fort taux d'endettement privé peut mettre en péril la stabilité macroéconomiqu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Un endettement privé élevé et croissant peut être le signe d’un modèle de croissance non durable (basé sur une augmentation excessive de l’endettement du secteur privé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62E5-E360-48C4-B547-B919816E0F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gramme du cou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Introduction / Vue d'ensem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Qu’est ce que la stabilité macroéconomique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f5494"/>
                </a:solidFill>
                <a:latin typeface="Verdana"/>
              </a:rPr>
              <a:t>- Détection des risques macroéconom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Le cadre de gestion des risques en pratiqu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B18A-A9B9-4962-BC52-94F95B751D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Check list du solde des transactions courantes (1/2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Solde des paiements courants : Déficit ou excédent ? Raison du déficit ? (Investissements élevés ? Faible taux d'épargne ?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Composition des exportations (diversification des produits des exportations ; destination des exportation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Niveau et évolution du taux de change réel (le pays a-t-il perdu de la compétitivité ?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BF27-DCB8-4B3C-B359-5C283B68A9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d624"/>
                </a:solidFill>
                <a:latin typeface="Verdana"/>
              </a:rPr>
              <a:t>Secteur extérieu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Check list du solde des transactions courantes (2/2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En cas d'importants envois de fonds :  ces envois son-ils menacés 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En cas d'importantes subventions publiques : ces subventions sont-elles menacées 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B849-BF0D-4A5E-B4D5-C69D9556C2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d624"/>
                </a:solidFill>
                <a:latin typeface="Verdana"/>
              </a:rPr>
              <a:t>Secteur extérieu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66680" y="981000"/>
            <a:ext cx="896472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600" spc="-1" strike="noStrike">
                <a:solidFill>
                  <a:srgbClr val="0f5494"/>
                </a:solidFill>
                <a:latin typeface="Verdana"/>
              </a:rPr>
              <a:t>Check list du compte financier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Volume et composition des flux de capitaux (court terme / long term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En cas d'importants flux de capitaux de court terme :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Quelle en est la volatilité ?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Sont-ils menacés ? (par exemple en cas de variation du taux d'intérêt mondial)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Est-ce que les flux de portefeuille des derniers trimestres coïncident avec une importante appréciation du marché des actions 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200" spc="-1" strike="noStrike">
                <a:solidFill>
                  <a:srgbClr val="0f5494"/>
                </a:solidFill>
                <a:latin typeface="Verdana"/>
              </a:rPr>
              <a:t>Est-ce que les banques seraient en mesure de refinancer leur dette à court terme en devises étrangères 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64B4-7DEC-4ED9-8090-690C6DCF76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d624"/>
                </a:solidFill>
                <a:latin typeface="Verdana"/>
              </a:rPr>
              <a:t>Secteur extérieu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600" spc="-1" strike="noStrike">
                <a:solidFill>
                  <a:srgbClr val="0f5494"/>
                </a:solidFill>
                <a:latin typeface="Verdana"/>
              </a:rPr>
              <a:t>Liste de contrôle de la soutenabilité de la dette extérieure et du stock des réserves de change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La dette extérieure est-elle soutenable 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800" spc="-1" strike="noStrike">
                <a:solidFill>
                  <a:srgbClr val="0f5494"/>
                </a:solidFill>
                <a:latin typeface="Verdana"/>
              </a:rPr>
              <a:t>En cas d'importants flux de capitaux de court terme : quel est le montant des réserves de change disponibles en cas d'arrêt soudain des flux de capitaux 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F13E-F3A0-4DA2-ADCB-F9008CC678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Secteur extérieu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gramme du cou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f5494"/>
                </a:solidFill>
                <a:latin typeface="Verdana"/>
              </a:rPr>
              <a:t>- Introduction / Vue d'ensem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Qu’est ce que la stabilité macroéconomiqu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Identification des risques macroéconom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Le Cadre de gestion des risques en pratiqu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608A-26A4-4DF8-BCED-F584C0210D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Check list du budge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Taille du déficit budgétaire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Total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rimaire (avant le paiement des intérêt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Avant les subvention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Revenus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 (en % du PIB)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(problème s'ils sont trop faible – p.ex. inférieur à 15% dans les pays pauvre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Financement du défici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Financement par la banque centrale ?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Autre financement intérieur ? (Risque d'éviction des investissements et de l'emprunt du secteur privé ?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Financement extérieur ? (à un taux concessionnel ?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88E6-DB2F-4A16-99BF-0E830CBC93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Finances publiqu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iste de contrôle de la dette publique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Quel est le taux 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Est-ce viable ?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Est-ce viable en cas de tension ?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Risques pour la dette publique (passifs éventuels) :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Perspectives économiques des entreprises d'État (besoin de recapitalisation ou d'importants subsides ?)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Risques de besoin de recapitalisation du secteur bancaire ? (voir par après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6586-C17B-4243-95AC-2353E8401A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Finances publiqu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Verdana"/>
              </a:rPr>
              <a:t>Liste de contrôle de la politique monétaire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600" spc="-1" strike="noStrike">
                <a:solidFill>
                  <a:srgbClr val="0f5494"/>
                </a:solidFill>
                <a:latin typeface="Verdana"/>
              </a:rPr>
              <a:t>Inflation passée, inflation future attendu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(supérieure à 5% 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600" spc="-1" strike="noStrike">
                <a:solidFill>
                  <a:srgbClr val="0f5494"/>
                </a:solidFill>
                <a:latin typeface="Verdana"/>
              </a:rPr>
              <a:t>Indépendance et crédibilité de la banque centrale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600" spc="-1" strike="noStrike">
                <a:solidFill>
                  <a:srgbClr val="0f5494"/>
                </a:solidFill>
                <a:latin typeface="Verdana"/>
              </a:rPr>
              <a:t>Niveau du taux de crédit privé / PIB et évolution récente de ce taux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600" spc="-1" strike="noStrike">
                <a:solidFill>
                  <a:srgbClr val="0f5494"/>
                </a:solidFill>
                <a:latin typeface="Verdana"/>
              </a:rPr>
              <a:t>Large écart entre les taux de change official et officieux (marché noir) (par rapport au dollar ou à l'euro) 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600" spc="-1" strike="noStrike">
                <a:solidFill>
                  <a:srgbClr val="0f5494"/>
                </a:solidFill>
                <a:latin typeface="Verdana"/>
              </a:rPr>
              <a:t>Signe de “dollarisation” (part des dépôts en devises étrangères supérieure à 15-20 %)  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6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3CC5-2681-4C33-86E9-B5C60B45C5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Politique monétaire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Liste de contrôle du secteur financier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Évaluation générale du PESF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Évolution récente des indicateurs de stabilité financièr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…… </a:t>
            </a: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le cours 3 abordera plus en détail le secteur financier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9A70-F515-48C9-886D-301CAD80CE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ZoneTexte 2"/>
          <p:cNvSpPr/>
          <p:nvPr/>
        </p:nvSpPr>
        <p:spPr>
          <a:xfrm>
            <a:off x="0" y="54936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Stabilité du secteur financie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69560" y="1052640"/>
            <a:ext cx="89629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Source d'information pour l'identification des </a:t>
            </a:r>
            <a:r>
              <a:rPr b="1" lang="fr-FR" sz="2400" spc="-1" strike="noStrike" u="sng">
                <a:solidFill>
                  <a:srgbClr val="0f5494"/>
                </a:solidFill>
                <a:uFillTx/>
                <a:latin typeface="Verdana"/>
              </a:rPr>
              <a:t>risques macroéconom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Politiques macroéconomiques et secteur financie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93480" indent="-15120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Rapport Article IV du FMI (ou révisions du FMI pour les pays sous programme du FMI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93480" indent="-15120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Documents du PESF du FMI et indicateurs de solidité financièr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Soutenabilité de la dett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93480" indent="-15120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Évaluation de la soutenabilité de la dette par le FMI et la BM (pour la dette publique et la dette extérieure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Vulnérabilité et chocs exogèn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93480" indent="-15120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Rapports Article IV du FMI (notamment la matrice d'évaluation des risque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93480" indent="-15120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93480" indent="-151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93480" indent="-151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606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Détection des risques macroéconomiqu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ZoneTexte 4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Source d'informat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5628-D74F-45C6-AB1F-49B88185AF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gramme du cou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Introduction / Vue d'ensem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Stabilité macroéconomiqu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Détection des risques macroéconom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fr-FR" sz="2400" spc="-1" strike="noStrike">
                <a:solidFill>
                  <a:srgbClr val="0f5494"/>
                </a:solidFill>
                <a:latin typeface="Verdana"/>
              </a:rPr>
              <a:t>Le cadre de gestion des risques en pratiqu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0996-E508-4ABC-9D53-1F382941DA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76360" y="43920"/>
            <a:ext cx="41022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CG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1125360"/>
            <a:ext cx="8962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Feuille de calcul Excel (1/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3 fichiers : Questionnaire - Registre des risques - Profil des ris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Remarque importante 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Feuille de calcul Excel” ne veut pas dire qu'il s'agit uniquement de chiffres (ni même principalement de chiffres)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 processus de remplissage de la feuille de calcul augmente la probabilité que la plupart des risques potentiels soient examinés et compri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 processus débouche sur une recommandation concernant l'appui budgétaire par l'UE dans le pay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CE2A-A23A-4E78-AB29-36DBC64AF5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CG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63080" y="1052640"/>
            <a:ext cx="8962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Feuille de calcul Excel (2/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Questionnaire : se concentre sur les risques de base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44 questions au total, dont </a:t>
            </a: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7 sur les risques macroéconomique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our chaque question, il fau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évaluer le niveau du risque (faible – modéré – substantiel – élevé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donner une justification du niveau choisi et une description de la nature exacte du risqu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La plupart des réponses </a:t>
            </a:r>
            <a:r>
              <a:rPr b="0" lang="fr-FR" sz="2000" spc="-1" strike="noStrike" u="sng">
                <a:solidFill>
                  <a:srgbClr val="0f5494"/>
                </a:solidFill>
                <a:uFillTx/>
                <a:latin typeface="Verdana"/>
              </a:rPr>
              <a:t>ne sont pas évident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Pour la partie numérique, le niveau de risque est la moyenne par dimensions (14) avec une marge pour les ajustements ad hoc (relevé ou abaissé d'un cran) selon votre juge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33E8-304D-4053-8E35-E19807E495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CG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8400" y="1483920"/>
            <a:ext cx="8962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Feuille de calcul Excel (3/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 registre des risques se concentre sur 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 niveau moyen des risques pour les 14 dimens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97520" indent="-191160"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Une moyenne mathématique : à partir du questionnair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97520" indent="-191160"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Une brève déclaration écrite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'évolution des risques au fil du temps pour chaque catégorie (automatiqu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s mesures d'atténuation pour chaque catégorie (brève déclaration écrit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97520" indent="-19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97520" indent="-19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8B93-3208-474C-BF22-576FFD1066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CG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8400" y="1483920"/>
            <a:ext cx="8962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Feuille de calcul Excel (4/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ofil de risque 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Le niveau moyen des risques pour les 5 catégories, la moyenne générale et les tendances (automatiqu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Recommandation générale 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“Que devrait faire l'UE concernant l'appui budgétaire dans ce pays ?” (déclaration écrit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isques majeurs et risque (ou avantages) de la non intervention par l'UE (déclaration écrit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Principales mesures d'atténuation (déclaration écrit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75200" indent="-18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75200" indent="-18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658C-392B-4E9A-B7DF-6A99F94E3E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8400" y="1267920"/>
            <a:ext cx="89629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'appui budgétaire est une modalité d'aide. Il implique le transfert de ressources financières au Trésor national d'un pays partenaire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 processus qui mène à l'appui budgétaire implique 4 évaluations (pertinence et crédibilité) par la Commission des éléments suivants 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litiques publ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Cadre macroéconomiqu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Gestion des finances publ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Transparence et lisibilité du processus budgétaire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3900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43640" y="0"/>
            <a:ext cx="273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Vue d'ensembl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27A7-35D9-4466-BFD5-2885BF460E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re 1"/>
          <p:cNvSpPr/>
          <p:nvPr/>
        </p:nvSpPr>
        <p:spPr>
          <a:xfrm>
            <a:off x="5508720" y="0"/>
            <a:ext cx="36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CG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6" name="Espace réservé du contenu 4" descr=""/>
          <p:cNvPicPr/>
          <p:nvPr/>
        </p:nvPicPr>
        <p:blipFill>
          <a:blip r:embed="rId1"/>
          <a:srcRect l="0" t="6006" r="0" b="6006"/>
          <a:stretch/>
        </p:blipFill>
        <p:spPr>
          <a:xfrm>
            <a:off x="-4680" y="2205000"/>
            <a:ext cx="9067680" cy="3888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1"/>
          <p:cNvSpPr/>
          <p:nvPr/>
        </p:nvSpPr>
        <p:spPr>
          <a:xfrm>
            <a:off x="395280" y="1628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isque général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5D6E-517D-4C21-A82B-F2794FA69C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600" spc="-1" strike="noStrike">
                <a:solidFill>
                  <a:srgbClr val="ffd624"/>
                </a:solidFill>
                <a:latin typeface="Verdana"/>
              </a:rPr>
              <a:t>Merci 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8A43-2561-4195-BC6B-47924D5C5485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624"/>
                </a:solidFill>
                <a:latin typeface="Verdana"/>
              </a:rPr>
              <a:t>Prat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63080" y="1052640"/>
            <a:ext cx="8962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Au moyen des informations du FMI, rédigez une courte fiche sur le pays, soit pour la Tunisie, soit pour le Ghana, et complétez le fichier Excel du CGR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our ce faire, commencez par utiliser la liste de contrôle ci-dessus et identifiez les risques pertinents pour le pays. Ensuite, indiquez si les autorités du pays sont conscientes des risques et prennent des mesures pour les réduire/atténuer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 cours de la troisième journée sera consacré aux indicateurs de solidité financière. Votre évaluation sera ajustée dans l'après-midi de la 3e journée pour prendre en compte la stabilité financière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57280" indent="-214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57280" indent="-214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40F5-DA63-4009-84C9-605958C438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43640" y="0"/>
            <a:ext cx="273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Vue d'ensembl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4000" y="1125000"/>
            <a:ext cx="882000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 cadre d'évaluation des risques aide à anticiper, surveiller et réagir aux évolutions politiques ou économiques du pays. 5 catégories de risque sont prises en considér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Risques polit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Risques macroéconom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Risques liés au développ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Risques de la gestion des finances publ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Corruption et fraud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La matérialisation d'un quelconque de ces risques est susceptible de réduire significativement l'efficacité de l'appui budgétaire, sauf si le pays partenaire prend des mesures d'atténuation suffisant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49720" indent="-211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49720" indent="-211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79D6-EDA4-4706-9404-6B19BBA10C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Programme du cou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- Introduction / Vue d'ensemb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Qu'est-ce que la stabilité macroéconomique 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étection des risques macroéconomiqu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fr-FR" sz="2400" spc="-1" strike="noStrike">
                <a:solidFill>
                  <a:srgbClr val="0f5494"/>
                </a:solidFill>
                <a:latin typeface="Verdana"/>
              </a:rPr>
              <a:t>Le Cadre de gestion des risques en pratiqu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D203-8756-4820-9E00-7FF455FBD4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74680" y="1125360"/>
            <a:ext cx="88567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3200" spc="-1" strike="noStrike">
                <a:solidFill>
                  <a:srgbClr val="0f5494"/>
                </a:solidFill>
                <a:latin typeface="Verdana"/>
              </a:rPr>
              <a:t>Éléments essentiels de la stabilité macroéconomique :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Balance des paiements soutenable (équilibre extern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Inflation basse et stable et faible taux de chômage (équilibre intern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Soutenabilité de la dette publique (équilibre intern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Solidité du système financier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fr-FR" sz="2800" spc="-1" strike="noStrike">
                <a:solidFill>
                  <a:srgbClr val="0f5494"/>
                </a:solidFill>
                <a:latin typeface="Verdana"/>
              </a:rPr>
              <a:t>Endettement privé soutenable (entreprises et ménages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ADA0-B851-490D-8573-1BBC82E091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0520" y="981000"/>
            <a:ext cx="8964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Verdana"/>
              </a:rPr>
              <a:t>Il est difficile de maintenir la croissance économique sans soutenabilité de la balance des paiement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Généralement, une crise de balance des paiements perturbe les importations et les flux de capitaux, ce qui pèse sur l’activité et réduit la croissance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0920" y="3284640"/>
          <a:ext cx="8388360" cy="2975040"/>
        </p:xfrm>
        <a:graphic>
          <a:graphicData uri="http://schemas.openxmlformats.org/drawingml/2006/table">
            <a:tbl>
              <a:tblPr/>
              <a:tblGrid>
                <a:gridCol w="3744720"/>
                <a:gridCol w="2021040"/>
                <a:gridCol w="2622600"/>
              </a:tblGrid>
              <a:tr h="9363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ée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variation de PIB réel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097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ique : 199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,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ésie : 1998 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,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quie : 200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,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e : 200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,9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AB8F-E64C-48AA-A34A-3EA6325BBC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484200" y="6324480"/>
            <a:ext cx="7745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urce : FMI. 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Perspectives de l'économie mondial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septembre 2006, octobre 2007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604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67200" indent="-36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Verdana"/>
              </a:rPr>
              <a:t>Il est difficile d'atteindre la croissance sans stabilité des prix 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6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67200" indent="-36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600" spc="-1" strike="noStrike">
                <a:solidFill>
                  <a:srgbClr val="0f5494"/>
                </a:solidFill>
                <a:latin typeface="Verdana"/>
              </a:rPr>
              <a:t>Un taux d'inflation élevé décourage l'épargne et les investissements étrangers, perturbe les prix relatifs, encourage les activités financières dispendieuses, la spéculation, la dollarisation et la fuite des capitaux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6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67200" indent="-36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2600" spc="-1" strike="noStrike">
                <a:solidFill>
                  <a:srgbClr val="0f5494"/>
                </a:solidFill>
                <a:latin typeface="Verdana"/>
              </a:rPr>
              <a:t>La déflation (inflation négative) décourage la consommation et les investissements (si les taux d'intérêt réels sont positifs) et retarde les ajustements des prix relatifs (à cause des rigidités nominales)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672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672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F446-262D-414B-953A-A6A122C913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Une dette publique non soutenable peut menacer la stabilité macroéconomique et la croissance économiqu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Une dette publique élevée 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eut réduire la capacité du gouvernement à mettre en place des politiques fiscales contra-cycliques lorsque celle-ci sont nécessair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Peut faire paniquer les investisseurs et ainsi occasionner une crise de la dette publique (taux d'intérêt élevés et incapacité à refinancer la dette à court term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152C-E80B-4F3C-B3F6-907294F59E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Stabilité macroéconomiqu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Anne Epaulard</cp:lastModifiedBy>
  <cp:lastPrinted>2015-06-02T09:44:00Z</cp:lastPrinted>
  <dcterms:modified xsi:type="dcterms:W3CDTF">2015-09-07T12:28:47Z</dcterms:modified>
  <cp:revision>237</cp:revision>
  <dc:subject/>
  <dc:title>Slide 1</dc:title>
</cp:coreProperties>
</file>